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7FFBE-46EA-4E54-8F64-DBD4A95DA4E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91535-87CF-49E3-AF41-1A16D9B8A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A052B-2A38-44A6-AD36-847A5174D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87727-FD61-4EE5-B8FA-806F1F641E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6F8B3-CE8B-4E7B-874A-1053DF713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B191F-BB9B-4F7A-B0F0-F52BC3389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AE5B8-4554-4442-929D-DA3FAD4D5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950D0-AF0A-4310-8701-4E2EF1BEA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CC2A8-95D8-47C5-B60B-657A1083F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0B517-7827-4B99-9F5A-C4BB199C8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18E5D-429E-4841-A65D-A0207BB75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9706B-DD82-4BCE-8EF5-048320690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82C55-DDBE-4373-92A9-0865C815B97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360" y="2205000"/>
            <a:ext cx="3456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第三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价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1044720" y="4438800"/>
            <a:ext cx="73436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     </a:t>
            </a:r>
            <a:r>
              <a:rPr b="1" lang="zh-CN" sz="4000" spc="-1" strike="noStrike">
                <a:solidFill>
                  <a:srgbClr val="fe230c"/>
                </a:solidFill>
                <a:latin typeface="Tahoma"/>
                <a:ea typeface="宋体"/>
              </a:rPr>
              <a:t>第五节  吞咽功能评定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252360" y="1844280"/>
            <a:ext cx="4038480" cy="452772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txBody>
          <a:bodyPr lIns="90000" rIns="90000" tIns="47160" bIns="4716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口腔期吞咽障碍：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流涎，唇闭合无力，鼓腮不能，构音障碍，舌无力影响咀嚼，吞咽后口内有食物残留，分次吞咽，仰头吞咽、低头吞咽，口阶段吞咽延迟，咽反射异常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五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)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716000" y="1701720"/>
            <a:ext cx="4038840" cy="452448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txBody>
          <a:bodyPr lIns="90000" rIns="90000" tIns="47160" bIns="4716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咽部吞咽障碍 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唾液在口咽部聚集，不能咽下，需定期吐出，主咳嗽反射减弱、声音减弱或不能自主咳嗽，分次吞咽，吞咽延迟，结构上提幅度降低，无效吞咽作，咽下困难，鼻反流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900000" y="1916280"/>
            <a:ext cx="7632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一）评定目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了解患者是否存在吞咽障碍，发生吞咽障碍的可能病因，找出吞咽过程中存在的解剖和生理异常，为制订康复治疗方案提供客观依据。 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二，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99640" y="2276280"/>
            <a:ext cx="727236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  </a:t>
            </a: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临床检查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史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服药史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营养状态</a:t>
            </a:r>
            <a:r>
              <a:rPr b="1" lang="zh-CN" sz="4000" spc="-1" strike="noStrike">
                <a:solidFill>
                  <a:srgbClr val="8ac8de"/>
                </a:solidFill>
                <a:latin typeface="华文新魏"/>
                <a:ea typeface="华文新魏"/>
              </a:rPr>
              <a:t>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二）评定内容及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900000" y="1988640"/>
            <a:ext cx="8064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2.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口腔功能评定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唇的运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颌的位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软腭运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喉的运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舌的运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二）评定内容及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900000" y="2133720"/>
            <a:ext cx="7407360" cy="34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.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功能评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反复唾液吞咽试验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冷按摩引发吞咽测试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饮水测试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4.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摄食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过程评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40608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二）评定内容及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饮水测试</a:t>
            </a: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得分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标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秒内饮完，无呛咳、停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一次饮完，但超过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秒，或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饮完，无呛咳、停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能一次饮完，但有呛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以上饮完，有呛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呛咳多次发生，全部饮完有困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判断标准：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为正常；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为可疑；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以上为异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二）评定内容及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971640" y="1484280"/>
            <a:ext cx="7777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、器械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X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线荧光透视检查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VFSS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  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表面肌电图检查 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SEMG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钡造影检查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超声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44360" y="333000"/>
            <a:ext cx="53672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42480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36720" y="2421000"/>
            <a:ext cx="688680" cy="593280"/>
            <a:chOff x="1836720" y="2421000"/>
            <a:chExt cx="68868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42120" y="243072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36720" y="242100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76680" y="2455920"/>
              <a:ext cx="600480" cy="513000"/>
            </a:xfrm>
            <a:prstGeom prst="hexagon">
              <a:avLst>
                <a:gd name="adj" fmla="val 29263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2061360" y="249408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36720" y="328608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79640" y="33577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1979640" y="422100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2052720" y="49417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D612B-F55B-4BFA-AC87-5B22D3E32D3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612720" y="1413000"/>
            <a:ext cx="80647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描述吞咽障碍的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比较不同颅神经损伤对吞咽功能的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饮水试验对脑卒中后吞咽障碍患者进行康复评价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2124000" y="2562120"/>
            <a:ext cx="48974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i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一）吞咽障碍</a:t>
            </a:r>
            <a:r>
              <a:rPr b="0" i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---</a:t>
            </a:r>
            <a:r>
              <a:rPr b="0" i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</a:t>
            </a: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792000" y="2357280"/>
            <a:ext cx="756144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障碍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dysphagia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是食物从口腔运送到胃的过程中出现障碍的一种表现。是一种常见的临床症状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99640" y="2060640"/>
            <a:ext cx="7372440" cy="38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整个吞咽过程分为五个阶段 ：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先行期（认知期）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口腔准备期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口腔期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咽部期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食管期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47280" y="115560"/>
            <a:ext cx="71298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二）吞咽过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图片 19" descr=""/>
          <p:cNvPicPr/>
          <p:nvPr/>
        </p:nvPicPr>
        <p:blipFill>
          <a:blip r:embed="rId1"/>
          <a:stretch/>
        </p:blipFill>
        <p:spPr>
          <a:xfrm>
            <a:off x="971640" y="1413000"/>
            <a:ext cx="7092720" cy="461628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6"/>
          <p:cNvSpPr/>
          <p:nvPr/>
        </p:nvSpPr>
        <p:spPr>
          <a:xfrm>
            <a:off x="2700360" y="5995080"/>
            <a:ext cx="39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过程阶段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71560" y="1844280"/>
            <a:ext cx="74088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三叉神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面神经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舌咽神经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迷走神经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舌下神经</a:t>
            </a:r>
            <a:r>
              <a:rPr b="1" lang="zh-CN" sz="4000" spc="-1" strike="noStrike">
                <a:solidFill>
                  <a:srgbClr val="8ac8de"/>
                </a:solidFill>
                <a:latin typeface="华文新魏"/>
                <a:ea typeface="华文新魏"/>
              </a:rPr>
              <a:t>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-98280"/>
            <a:ext cx="8229600" cy="125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三）吞咽有关的神经支配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71560" y="1557360"/>
            <a:ext cx="7516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按有无解剖结构异常 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功能性吞咽障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器质性吞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根据病因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结构性吞咽障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神经源性吞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精神性吞咽障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四）吞咽障碍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755640" y="2349360"/>
            <a:ext cx="74088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楷体"/>
              </a:rPr>
              <a:t>根据发生吞咽障碍的阶段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楷体"/>
              </a:rPr>
              <a:t>: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口腔期吞咽障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咽期吞咽障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食管期吞咽障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四）吞咽障碍的分类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6:51:07Z</dcterms:modified>
  <cp:revision>1</cp:revision>
  <dc:subject/>
  <dc:title>  第三章  康复护理评价</dc:title>
</cp:coreProperties>
</file>